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D90-4189-4B97-8D8E-D5979B3A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9F7-8EA1-4F1A-B2A5-913A7BAD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D449C-F5EE-4E2C-96BA-8A12B4B2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C96FA-85C5-40F3-BEFD-DC15B6DE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2941F-0542-492E-AA08-44E8B27A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B5BFD-7B51-45A2-9F3D-00EBF25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0F627-CAC9-4562-BDAD-83646FB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9C21B-9654-4CA7-B852-1360AC6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43B0-F1A6-4A88-8D3A-50434D89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E1D4-80E9-4D79-BC3B-7029E65E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9B4E5-5E78-4C76-95E5-27E145A6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E6BEA-449D-4073-8384-5FE61301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449-8D01-45B9-B0AB-69943918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3918C-51F1-4B85-8D04-5FDC4FA9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4C2F2-CEFF-4235-9FE9-34A84DA6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BF1EB-E9F2-4F35-8F6E-8828C5F6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A4FCA-8D28-4828-B571-40EC8C6A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FEA54-C787-4D14-B69E-A56EC573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4F9EB-CF7B-4AF7-BE6A-255D1EF1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EA7EB-F6FC-493B-8773-6D0C73C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385D4-63F0-44CE-BFD0-756F4576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1AA6A-9B54-4533-9D66-2269B53C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BD9E8-7293-4160-A204-96415503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D97-A8E7-4888-9DC7-2534BE5F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AFDC5-39F4-4B53-B40B-F114C13E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899AD-38F6-42B3-A432-19A09BE1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4578F-EA1A-4DBB-B478-D178BE70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3ED7F-D2D6-4939-B2D6-D10893FB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E356B-5549-4D20-BB3F-307DF4C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01A75-A94B-48B8-AEFB-DEE32A6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21A7C-63CC-413C-86CB-C20D2767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4A64B-016C-404C-90AF-18B934C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6F36-9B8F-4DBA-8936-846440F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25EBD-BEA6-461B-BD4D-E82569A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45BF-4888-45F6-8EE0-9FA30417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5B06E-E810-497B-9D22-1588778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BCB0B-0BE8-4359-855E-420C00B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D03CF-2372-4C54-8D11-4AC0C33F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E60D2-D0CC-4CB3-9CD4-28BFBE2A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FC43C-0C1A-4C2B-99AD-300B54B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CC9CB-A73C-4DAB-AA31-AFFB610F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96AAA-EE9F-4B3A-9639-41B22DD6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FA3E1-C8B1-4483-9656-145203A4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42E86-ADC7-4114-952E-51B68B2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7A817-88C3-47B0-A450-EB01489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AE6-F28F-4D05-9140-20E7E85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E1F53-06DD-4F94-87A2-D2CB6838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9AA1A-7E33-4020-979D-00E0CD70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62887-D397-49E6-BB87-C6F01B6C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803A9-E787-4B35-AFA9-BE433BBB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6797E-9436-4DA2-8E40-F8AE3813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FE50B-6F0B-4C1C-811E-BC91D1DC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A9CBE-834E-4FD5-A5DE-5FEA7C4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DE76A-83C1-48FF-BBDA-41AABB0F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D993D-8FC6-4012-87F5-4A445F00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56B31-B299-4798-B00D-78992F6F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78F5-BA4D-4E06-810A-744CB50D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10A1B-2618-442F-B262-5A567BAC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177DF-7FD1-4B6C-AA72-3A02E97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406F9-EC50-4FCF-9343-D27F7B7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AE759-72D0-4B9A-8EF7-647FA6B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470C9-D31B-4DD4-AA8F-BB5D716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9ABFF-AFB5-4402-B125-BB631C29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1F189-7033-43D8-AB0D-9345DD17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6A121-9C26-4363-BC49-BE071187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C78B1-D646-4E32-A76C-744A008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D1633-EA1C-46BA-8D5E-436A3ED5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257-34CF-4106-8EED-2544FFE8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919F5-FFC6-49CC-B2E6-8969AEB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AF0DD-1162-4CCD-9EFC-6E81D4A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126CA-DCEB-451C-A6D1-BCBEC4F0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AD57A-9A6B-47E6-9A5C-32D94A6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1509D-E99C-488D-80B4-603321B7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C1950-2065-4983-9164-83DCA76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FA6D7-265C-4825-9A68-46508796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6F828-F250-4492-BBC4-08F038AD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DBD7A-B05F-4062-B250-E13AD921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54E84-D770-4F96-9A80-DBCA1059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68D5-0A2D-4F9C-ADF3-3A0A9E3E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156F1-C147-48F0-A61F-6D203A4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65586-A45A-4B4C-8836-EF84BFE9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F3C7C-6127-419C-8AFA-EAD5556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0EF5F-F3AF-417E-BFE6-D80BAD80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3C6C9-B4AA-4C10-9DD4-1B852DE9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1497E-64FA-4C79-A22B-F8DDB53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6BC4B-57D5-4857-972E-F1C4652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BDC4B-B1A7-4BD1-AF6C-FD0F7C4B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27AFD-33BE-45C2-8ACA-06FCC51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74FFBE-12EF-492B-96D7-202A6FB0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8285-DB3A-4823-9CF5-ED1029BC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F8531-7BA4-468A-AC17-4455878E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87521-6367-427F-99B8-3EAB8566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80FBD-E51F-4C79-B7E7-BC6B5043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EFA19-7703-48A0-8F3A-A45B31C5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86FA7D-A1CA-4952-A0C7-4698894C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162C0-B39D-4FA8-BD3E-E900580C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D179A-1EB2-42F6-AC69-449A60FD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B18A5-2EBB-4931-A34D-4240E28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8F5FF-A7E1-4DD9-BC53-AB53BEA6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C0141-AFF1-4DAB-9006-6959866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A6C1-A936-40D5-97C6-D2A09DE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1E68F-F9B4-4208-83F5-00E68203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4F859-28C6-440A-AD22-930D6042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372E9-B0B0-4A01-A3FD-DCFBD6D1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134F1-7CCA-4B91-AA85-6C7BB75F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21B80-949F-43F5-9E3F-F403F551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1CE20-4359-407B-A4CC-FF99222D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7DCEF-9589-4EAF-9AD8-A2008D02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9A48A-D4C9-4809-8ACB-9EABED1A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BDFA0-485D-45ED-B4D5-34B59438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C1D85-9515-4AC6-A2DF-F864A8F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AEB-121A-4B6B-865F-FF8A5EC8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AE94-8BB2-4E51-94BF-F5001854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D744B-3738-465C-983A-5FE5ADCB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D2D63-A9DF-4183-9DE0-211FE7D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885B81-345C-4B8D-B719-58653EC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34550-7AEF-4A43-B4D9-7D6C6AB8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DEB23-5EAE-48AB-8FEC-369E14A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3838C-B63F-4008-BB1F-894FD57D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F5F24-36F1-4D0F-B192-D00A382F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85B89-C381-4938-9086-C7F056A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BE9B8-6425-413E-9C4B-E8728759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91DE5-66C5-4E99-A947-99003424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6BA3-3046-413E-A4F2-6BF5BEE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816B6-3FF9-4489-BC0D-B1DBFEAA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FC062-C39F-451C-8AEF-85472ECD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3F4B0-0FB5-47A3-8DC8-A7BB4FF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4CF65-B1BE-4478-ADC5-B8C8974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8665B-86F4-485A-9F9E-9D8D8C5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6666F-1767-4D55-9AC2-8A56339D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D7BD5-2BF2-4ED3-B5BE-9558D595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560AB-C93F-4C4B-B844-E29FD51F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6E4C0-64AA-4BBB-A0A6-6DA23E06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33AB2D-C763-4053-BB6E-648F7DE6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F9F-483C-40A4-A227-0691BED0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26450-184E-48CF-9B1E-500FE33A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AE3EB-067A-4E1D-AD1F-88D0EB96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37D14-ACC1-4096-80FE-2E2BA56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9E2C4-8FDB-420A-B60C-FD4A2934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D24CD-48BB-4E64-8A2D-F8E23C9C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824B3-4190-4A1B-9FFC-8859B9A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18A95-3131-41EB-91A5-5392EDB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00FC1-9A6E-4FCC-B8D4-41EBBBC9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B631F-1EDF-4E57-B729-FE9C9394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A2859-1CDE-47D5-96A5-6DB8EA4D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3B83-2BF1-4471-8D6C-FE7EB48C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A6683-F972-4393-9200-CEE888D4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B7B3D-3E5E-4EE6-B3FE-871CFC01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8CA8F-4C12-4FE9-A708-99B9B093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5FB040-98F1-4DF7-B2F3-B82D7238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DF5A7-908C-47A3-B669-8693BA44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4B88F-9D24-4CCF-8FF8-A7C9F1E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691B6-D33A-4664-8286-F6FEC5C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627A0-0B7B-4D9F-9406-71735AF3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B19AA-A6D5-4B1B-8558-0C668F35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8FE396-1F5A-4FF0-9006-8936871F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C449-3FD9-4103-9A2A-74579BF5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36B0E-BA54-4245-B471-A8E85E5D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EFAAB0-E816-4378-95B2-3C21C571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A7E2F-C806-46F6-BA3F-8940A9F6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9DEEF-A4C3-4825-8126-DD0D1B10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91F63-88EE-47F1-829B-F77ACED7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09DFC-CDED-4A71-B0C5-92D497B5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601D9-1400-45AF-8F2C-B05C84EF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149C1-DA40-4775-ACA7-3FE768F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ED8C7-90B4-449D-ACB8-3CFEB0F7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EF71A-2533-4AFF-883D-544AEFC7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04B9-796A-46BE-83F8-C0205873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CA904-09E7-47BD-A97F-91FA723B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4455B-8B1B-4E4D-AD96-D8EBA571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E219D0-1823-4969-A050-C21BD782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AACE-120D-46B3-BDA2-9453FD33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F845-65FD-4210-A445-572C2747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5345-45D1-44F6-AFAC-C90E961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3182-9C3E-44B2-A2D0-5C7565E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FB4-FE7C-4AA9-92DC-691DD28F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3F4A-4BF1-44DA-A4D9-7C7985A9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5A0C-417E-4168-82F2-59E47AA7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894C-4419-4948-B5CF-73D301B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D2CF-A894-485F-84E3-6040E1FE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1C24-0E90-41EF-8569-186E7B9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E205-217D-42A7-B2CE-3D347A1B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C1AB-5ECD-46BA-A894-4922D97B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E5E1-BDB2-4F19-A77C-5CA2CADF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58D1-8C08-45D2-9290-B8CDB33E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ECD7C-B0BE-402C-8835-F00A5120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42F-8543-49D5-86DF-54D150A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06FA-DB4D-473E-AEDE-F57ED24B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2199-77E4-46CD-BD3A-996A30DE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06E3-3371-407C-82B2-AB680E4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04BD-DED3-40C4-BB1F-7B763FE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DEF6-82E1-4B26-930C-F0E7227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7AD2-3B8F-4A5A-A95E-6346DE0F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ADAB-16F8-4317-8A7A-FDFDE43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366F-D05D-47CC-A44A-5CBFE146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E1E3-62E4-4130-A292-274F6DEE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A0314-78ED-4E5F-83F6-61197D7D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73A-76A9-4193-BDBC-FBA898B6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F3DB-6563-48DC-A6FC-91EC30BA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1A15-D39E-4949-8248-AEC7271E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732E-E253-44B0-A46F-F4526909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FF6FF-7B81-48D2-86A9-E6B6E784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45A8A-6D13-41A4-9E83-49217B62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0FD7-AC55-4788-9A97-7CD4827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856D-00CA-4361-AAC7-1E5CFD9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64DEB-F7A5-44F3-BEC7-5EF1769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C30E-0AC6-47BB-A8B7-479D1F8B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DBF0-64B4-4A69-AF35-20FE1D7A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B15-11F3-4E62-9275-C4E0DE26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066C-DD35-41FE-B2F6-64633F1B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F6527-2A40-4619-992A-AF15B6F7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A3930-F1A3-49D8-87D1-FDDEA052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1A482-3760-4989-B1A8-469DF6E7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49D7-0150-496A-ACC9-D893E32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08AA-B1BE-44AA-A0E5-432FB62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F9737-95F1-449C-8EB8-184AA593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BF41B-2E88-4226-B9A9-A1EC7FE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82E4C-B955-43B2-B848-939C44B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ACF6B-F171-4949-A8B9-7630036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0BE-AFA5-46AC-AA6D-87024CB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C4E6-032F-4E30-9840-F45DC342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189E3-76C1-4553-B2C0-DBF37E0E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7C998-B6F1-4058-A539-14D1DD05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757E-C9C1-4633-80B8-6B37DA05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598CF-E86E-4232-BD43-D1989237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CE1F-DF26-4CB5-A143-888423EF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E6171-B71D-40B9-B3A9-467978FC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8CB1-6C8D-42D2-BEE5-4AD92682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6166B-9E6E-4B34-8422-5BA81C9B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0FAA-3D4C-47C4-9EAE-0D38A82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785-8F2C-4B1E-82E3-687B150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94161-7000-4DFD-B93F-D130236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5C190-6514-45E1-9E73-B1A9B0E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170A-9C3E-422C-8614-8769D6D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8122-AAB2-45BE-B6BC-3875DDF0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1BC9F-8141-49E4-9C90-DD10FE13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2E28-D3FB-4154-A10E-7D1B58A8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474B-71B4-4BFA-94B6-8ED2107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F49D0-9334-463F-88E6-4A75FD86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716CF-E565-4953-8F74-3B347758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8A0D-DBF5-4B23-AC04-1240DCF5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0B9-1C91-45D4-89A4-158B709C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5B97-9B4B-4213-A84B-54C26202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CE589-D4E8-4006-A32C-5D878AA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3B807-ECD3-4E9C-80C8-CE7D3D15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A18C-1229-4EDA-8C02-5DD9682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091D-1C9B-47A9-9AE0-855FE8C4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9ED5-8ABC-4965-B969-BB442C4E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36926-673C-499E-8001-BA90A950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BEC96-CE30-4DC7-B5D9-91261AD1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5852D-DC74-4494-9C96-AC496E0E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45EC8-CD36-4610-AE15-76E1507A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72C7-1406-4518-92D4-88DE602EC1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7410-8D58-4AE7-82D4-1F07B7E82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0951-410D-40C0-A40D-A849777488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5E06-A9BA-475F-B457-108FCB482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29DE-760E-4243-B184-E2AEC32F41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FA3-5DCC-49CF-AEB4-9014BBC0C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20A-5387-4969-8EE0-47C1E04351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7E64-69B1-486B-AE8B-936219058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161B-37A5-41D9-A9B6-24EAA59621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E91C-523D-4DC2-9E31-DB20F273E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26A-F7CF-4C59-B7A1-383C68C7A6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099B-2B8D-4BBD-8109-4531429A4F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C4C7-3722-4BAE-96C9-D7A868173D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D6D-9443-4E81-8ED0-A5B0B24BD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DE0-27CA-4EFD-B8FF-05C5B0DA0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AA47-7F30-4E69-B615-4134A04E7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13BA-5C24-4180-A2DC-8751F3B472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1238-5075-456C-A257-CDC370FF3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59C-CBA8-41CF-A969-B5F871A77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2669-4C47-42DD-91FC-85DA60D56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02D-E839-4E84-AC74-F13C3DF96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58F9-5BA4-48E3-80A1-322F09499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7464-D3DF-4CBD-8352-89595EB356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70EE-6C3D-460F-83E3-07D8E06B1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F916-4F2E-42F8-B467-B27D782B7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1BFB-060F-4AB4-B932-DE1A4E8035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CCCE-632C-4292-BA48-E765AFC76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18F3-DC12-41D8-927C-3847FCB99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D6E4-2410-41FF-B47F-40B61EF8C6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D044-1E09-4304-B09E-F982F0239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4F76-2631-40B5-9CC2-BAA28E086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8B8-6417-4CE7-AC3B-C992A82E5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9A1B-5686-4706-AC22-9C2A2CAC7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A734-7E63-4726-B23D-FBCA26CB8B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64A0-BD3F-414E-B08E-73F87BF63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8A70-0AEF-4201-B278-58A8C4F75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CEE-CEC5-43B7-8AD1-892293EC7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B84-6FF6-4583-959D-DF1533D75F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54DE-7C74-4413-BE46-C19D0982C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912B-9DE3-4706-8488-1C3F0DAAD5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47720" y="3009960"/>
            <a:ext cx="5848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214200" y="776160"/>
            <a:ext cx="8715600" cy="5305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332000" y="5516640"/>
            <a:ext cx="403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628560" y="1143000"/>
            <a:ext cx="7886880" cy="4572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2449440"/>
            <a:ext cx="626580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62658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114560" y="3816360"/>
            <a:ext cx="62658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1187280" y="4508640"/>
            <a:ext cx="626616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71640" y="5099040"/>
            <a:ext cx="626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1157400"/>
            <a:ext cx="8544240" cy="4543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484360" y="404820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03640" y="40194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300720" y="4724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14440" y="1157400"/>
            <a:ext cx="8115120" cy="4543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7812000" y="184464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1116000" y="249228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087720" y="387504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1692360" y="45086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7308720" y="4508640"/>
            <a:ext cx="863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85840" y="770040"/>
            <a:ext cx="8572320" cy="5972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667640" y="1628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596360" y="292428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596360" y="3645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7596360" y="494172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7653240" y="62085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257040" y="743040"/>
            <a:ext cx="8629920" cy="5371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2916360" y="2219400"/>
            <a:ext cx="489564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203640" y="2881440"/>
            <a:ext cx="532908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276720" y="3543480"/>
            <a:ext cx="55432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826920" y="4192560"/>
            <a:ext cx="554364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3786120" y="4854600"/>
            <a:ext cx="53294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684360" y="5516640"/>
            <a:ext cx="5543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290520" y="1714680"/>
            <a:ext cx="8562960" cy="3429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6156360" y="31701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763640" y="4479840"/>
            <a:ext cx="165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642960" y="2128680"/>
            <a:ext cx="7858080" cy="2600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476360" y="2765520"/>
            <a:ext cx="15112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3348000" y="4105440"/>
            <a:ext cx="23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266760" y="611280"/>
            <a:ext cx="86104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633240" y="2162160"/>
            <a:ext cx="7877520" cy="2533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3203640" y="2824200"/>
            <a:ext cx="1368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136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9:4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